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11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36.jpeg" ContentType="image/jpeg"/>
  <Override PartName="/ppt/media/image1.jpeg" ContentType="image/jpeg"/>
  <Override PartName="/ppt/media/image10.jpeg" ContentType="image/jpeg"/>
  <Override PartName="/ppt/media/image29.jpeg" ContentType="image/jpeg"/>
  <Override PartName="/ppt/media/image22.jpeg" ContentType="image/jpeg"/>
  <Override PartName="/ppt/media/image3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1D2-5C40-4A1F-9C44-F207716C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4CD-C3AF-4054-AA47-715EF076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380-663B-4055-92A4-469F167D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881-4C21-4BEA-BB3B-A0FF9726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31A-3CC3-4B04-A73E-9D4DF007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D66-84E5-4C16-B1A8-D00A4C8D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DD4-8D03-4589-93B5-E6A5FE5A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835-F157-42FF-885D-120F012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D82-CDB0-47E2-8953-7608ECA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7726-D9CA-42DD-8799-81D78F04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C2BE-DA7D-4776-BFFA-715E5F2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AF4-C96B-468E-94F6-78BE7E98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E3FE-D57F-4FCB-A320-59FDE51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3DAD-A89F-480E-B9BD-B541726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C6A6-9CD6-43C6-B1CB-D6A3159B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3A3C-FEF6-4B44-9476-859EBF3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6B53-B5A0-41D8-8D4D-BC1CB758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F46-B9DE-48B2-8FE3-CA33BD4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269-7E70-4A6D-81B3-B0583D8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F4D-0339-4DAB-9DDA-D18800E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B0C-346E-44E0-A494-6EA36648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DFF-1E20-4566-A6BB-8261639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953-9B4E-49BA-8322-274A9F1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CA4-E9CE-4294-B4CA-95F5A4F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28A5-C9D0-49D2-857A-4F30E9B49B4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5A7A-578E-45D8-9462-38574D27C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3" descr=""/>
          <p:cNvPicPr/>
          <p:nvPr/>
        </p:nvPicPr>
        <p:blipFill>
          <a:blip r:embed="rId1"/>
          <a:stretch/>
        </p:blipFill>
        <p:spPr>
          <a:xfrm>
            <a:off x="792000" y="1085760"/>
            <a:ext cx="75535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4" descr=""/>
          <p:cNvPicPr/>
          <p:nvPr/>
        </p:nvPicPr>
        <p:blipFill>
          <a:blip r:embed="rId2"/>
          <a:stretch/>
        </p:blipFill>
        <p:spPr>
          <a:xfrm>
            <a:off x="676440" y="2255760"/>
            <a:ext cx="7645320" cy="74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6" descr=""/>
          <p:cNvPicPr/>
          <p:nvPr/>
        </p:nvPicPr>
        <p:blipFill>
          <a:blip r:embed="rId3"/>
          <a:stretch/>
        </p:blipFill>
        <p:spPr>
          <a:xfrm>
            <a:off x="6138720" y="4084560"/>
            <a:ext cx="27925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rcRect l="23625" t="11762" r="17577" b="168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70000" contrast="-70000"/>
          </a:blip>
          <a:srcRect l="23625" t="11762" r="17577" b="168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06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approaches to improve working speed of the Stirling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temperature dif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effec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764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: Adding weights would increase efficiency of Stirling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set-up: Original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set-up: Engine with added we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群組 5"/>
          <p:cNvGrpSpPr/>
          <p:nvPr/>
        </p:nvGrpSpPr>
        <p:grpSpPr>
          <a:xfrm>
            <a:off x="2124000" y="3429000"/>
            <a:ext cx="5403960" cy="3313080"/>
            <a:chOff x="2124000" y="3429000"/>
            <a:chExt cx="5403960" cy="3313080"/>
          </a:xfrm>
        </p:grpSpPr>
        <p:pic>
          <p:nvPicPr>
            <p:cNvPr id="138" name="圖片 53" descr="P1090580"/>
            <p:cNvPicPr/>
            <p:nvPr/>
          </p:nvPicPr>
          <p:blipFill>
            <a:blip r:embed="rId1"/>
            <a:srcRect l="21376" t="15349" r="27371" b="4631"/>
            <a:stretch/>
          </p:blipFill>
          <p:spPr>
            <a:xfrm>
              <a:off x="4688640" y="3429000"/>
              <a:ext cx="28393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圖片 54" descr="P1090582"/>
            <p:cNvPicPr/>
            <p:nvPr/>
          </p:nvPicPr>
          <p:blipFill>
            <a:blip r:embed="rId2"/>
            <a:srcRect l="19309" t="11433" r="29194" b="0"/>
            <a:stretch/>
          </p:blipFill>
          <p:spPr>
            <a:xfrm>
              <a:off x="2124000" y="3429000"/>
              <a:ext cx="2564640" cy="331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5516640"/>
            <a:ext cx="86043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weights can increase the efficiency of the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圖表 7" descr=""/>
          <p:cNvPicPr/>
          <p:nvPr/>
        </p:nvPicPr>
        <p:blipFill>
          <a:blip r:embed="rId1"/>
          <a:srcRect l="1624" t="3266" r="10928" b="2765"/>
          <a:stretch/>
        </p:blipFill>
        <p:spPr>
          <a:xfrm>
            <a:off x="684360" y="1268280"/>
            <a:ext cx="7777080" cy="4105440"/>
          </a:xfrm>
          <a:prstGeom prst="rect">
            <a:avLst/>
          </a:prstGeom>
          <a:ln w="0">
            <a:noFill/>
          </a:ln>
        </p:spPr>
      </p:pic>
      <p:pic>
        <p:nvPicPr>
          <p:cNvPr id="143" name="圖表 7" descr=""/>
          <p:cNvPicPr/>
          <p:nvPr/>
        </p:nvPicPr>
        <p:blipFill>
          <a:blip r:embed="rId2"/>
          <a:srcRect l="78547" t="42848" r="6070" b="29149"/>
          <a:stretch/>
        </p:blipFill>
        <p:spPr>
          <a:xfrm>
            <a:off x="7380360" y="2924280"/>
            <a:ext cx="14396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: Adding a solar reflector would increase the temperature dif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set-up: Original engine (with ice pa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set-up: Engine with solar reflector (with ice pa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2879640" cy="223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4716360" y="4508640"/>
            <a:ext cx="3024360" cy="223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rcRect l="9032" t="0" r="26160" b="0"/>
          <a:stretch/>
        </p:blipFill>
        <p:spPr>
          <a:xfrm>
            <a:off x="7093080" y="4508640"/>
            <a:ext cx="206532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"/>
          <p:cNvPicPr/>
          <p:nvPr/>
        </p:nvPicPr>
        <p:blipFill>
          <a:blip r:embed="rId4"/>
          <a:srcRect l="18087" t="0" r="0" b="0"/>
          <a:stretch/>
        </p:blipFill>
        <p:spPr>
          <a:xfrm>
            <a:off x="-15840" y="4508640"/>
            <a:ext cx="228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圖表 8" descr=""/>
          <p:cNvPicPr/>
          <p:nvPr/>
        </p:nvPicPr>
        <p:blipFill>
          <a:blip r:embed="rId1"/>
          <a:srcRect l="1580" t="2584" r="12605" b="3591"/>
          <a:stretch/>
        </p:blipFill>
        <p:spPr>
          <a:xfrm>
            <a:off x="684360" y="1197000"/>
            <a:ext cx="7848360" cy="5184720"/>
          </a:xfrm>
          <a:prstGeom prst="rect">
            <a:avLst/>
          </a:prstGeom>
          <a:ln w="0">
            <a:noFill/>
          </a:ln>
        </p:spPr>
      </p:pic>
      <p:pic>
        <p:nvPicPr>
          <p:cNvPr id="152" name="圖表 8" descr=""/>
          <p:cNvPicPr/>
          <p:nvPr/>
        </p:nvPicPr>
        <p:blipFill>
          <a:blip r:embed="rId2"/>
          <a:srcRect l="64560" t="41685" r="3941" b="46600"/>
          <a:stretch/>
        </p:blipFill>
        <p:spPr>
          <a:xfrm>
            <a:off x="5722920" y="3357720"/>
            <a:ext cx="288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圖表 9" descr=""/>
          <p:cNvPicPr/>
          <p:nvPr/>
        </p:nvPicPr>
        <p:blipFill>
          <a:blip r:embed="rId1"/>
          <a:srcRect l="1332" t="2020" r="10736" b="2465"/>
          <a:stretch/>
        </p:blipFill>
        <p:spPr>
          <a:xfrm>
            <a:off x="324000" y="1127160"/>
            <a:ext cx="8424720" cy="4389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5280" y="5543640"/>
            <a:ext cx="86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Adding solar reflectors can increase temperature difference and efficiency of the eng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圖表 9" descr=""/>
          <p:cNvPicPr/>
          <p:nvPr/>
        </p:nvPicPr>
        <p:blipFill>
          <a:blip r:embed="rId2"/>
          <a:srcRect l="65629" t="44717" r="1561" b="37007"/>
          <a:stretch/>
        </p:blipFill>
        <p:spPr>
          <a:xfrm>
            <a:off x="6084720" y="2997360"/>
            <a:ext cx="26654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 Solar Panels?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olar Pa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ely expens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ome electronic waste when 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ur Stirling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ct as a vent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ork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s can be fixed when faul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l_fi" descr="http://www.cleanmpg.com/photos/data/501/stirling_engine.jpg"/>
          <p:cNvPicPr/>
          <p:nvPr/>
        </p:nvPicPr>
        <p:blipFill>
          <a:blip r:embed="rId1"/>
          <a:stretch/>
        </p:blipFill>
        <p:spPr>
          <a:xfrm>
            <a:off x="7236000" y="4535640"/>
            <a:ext cx="1643040" cy="1630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0.gstatic.com/images?q=tbn:ANd9GcQFadDuKTJ-TwJMiIF8zVViXmeC7lSIodEznS74OPi61NR1XmYM"/>
          <p:cNvPicPr/>
          <p:nvPr/>
        </p:nvPicPr>
        <p:blipFill>
          <a:blip r:embed="rId2"/>
          <a:stretch/>
        </p:blipFill>
        <p:spPr>
          <a:xfrm>
            <a:off x="2195640" y="4076640"/>
            <a:ext cx="1714320" cy="1527120"/>
          </a:xfrm>
          <a:prstGeom prst="rect">
            <a:avLst/>
          </a:prstGeom>
          <a:ln w="0">
            <a:noFill/>
          </a:ln>
        </p:spPr>
      </p:pic>
      <p:sp>
        <p:nvSpPr>
          <p:cNvPr id="164" name="乘號 10"/>
          <p:cNvSpPr/>
          <p:nvPr/>
        </p:nvSpPr>
        <p:spPr>
          <a:xfrm>
            <a:off x="500040" y="4786200"/>
            <a:ext cx="1500120" cy="1428840"/>
          </a:xfrm>
          <a:custGeom>
            <a:avLst/>
            <a:gdLst>
              <a:gd name="textAreaLeft" fmla="*/ 244440 w 1500120"/>
              <a:gd name="textAreaRight" fmla="*/ 1255680 w 1500120"/>
              <a:gd name="textAreaTop" fmla="*/ 221400 h 1428840"/>
              <a:gd name="textAreaBottom" fmla="*/ 1207440 h 1428840"/>
            </a:gdLst>
            <a:ahLst/>
            <a:rect l="textAreaLeft" t="textAreaTop" r="textAreaRight" b="textAreaBottom"/>
            <a:pathLst>
              <a:path w="1500187" h="1428750">
                <a:moveTo>
                  <a:pt x="244431" y="464820"/>
                </a:moveTo>
                <a:lnTo>
                  <a:pt x="476184" y="221480"/>
                </a:lnTo>
                <a:lnTo>
                  <a:pt x="750094" y="482346"/>
                </a:lnTo>
                <a:lnTo>
                  <a:pt x="1024003" y="221480"/>
                </a:lnTo>
                <a:lnTo>
                  <a:pt x="1255756" y="464820"/>
                </a:lnTo>
                <a:lnTo>
                  <a:pt x="993724" y="714375"/>
                </a:lnTo>
                <a:lnTo>
                  <a:pt x="1255756" y="963930"/>
                </a:lnTo>
                <a:lnTo>
                  <a:pt x="1024003" y="1207270"/>
                </a:lnTo>
                <a:lnTo>
                  <a:pt x="750094" y="946404"/>
                </a:lnTo>
                <a:lnTo>
                  <a:pt x="476184" y="1207270"/>
                </a:lnTo>
                <a:lnTo>
                  <a:pt x="244431" y="963930"/>
                </a:lnTo>
                <a:lnTo>
                  <a:pt x="506463" y="7143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半框架 11"/>
          <p:cNvSpPr/>
          <p:nvPr/>
        </p:nvSpPr>
        <p:spPr>
          <a:xfrm rot="12360600">
            <a:off x="5733720" y="4862520"/>
            <a:ext cx="1066680" cy="1278000"/>
          </a:xfrm>
          <a:custGeom>
            <a:avLst/>
            <a:gdLst/>
            <a:ahLst/>
            <a:rect l="l" t="t" r="r" b="b"/>
            <a:pathLst>
              <a:path w="1066800" h="1277937">
                <a:moveTo>
                  <a:pt x="0" y="0"/>
                </a:moveTo>
                <a:lnTo>
                  <a:pt x="1066800" y="0"/>
                </a:lnTo>
                <a:lnTo>
                  <a:pt x="874121" y="230813"/>
                </a:lnTo>
                <a:lnTo>
                  <a:pt x="355596" y="230813"/>
                </a:lnTo>
                <a:lnTo>
                  <a:pt x="355596" y="851962"/>
                </a:lnTo>
                <a:lnTo>
                  <a:pt x="0" y="1277937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1711800" y="836640"/>
            <a:ext cx="34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Stirling Eng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a7.sphotos.ak.fbcdn.net/hphotos-ak-ash3/554316_4103533185618_1201622265_33928710_215027693_n.jpg"/>
          <p:cNvPicPr/>
          <p:nvPr/>
        </p:nvPicPr>
        <p:blipFill>
          <a:blip r:embed="rId1"/>
          <a:stretch/>
        </p:blipFill>
        <p:spPr>
          <a:xfrm>
            <a:off x="714240" y="1254240"/>
            <a:ext cx="7818480" cy="5287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http://t0.gstatic.com/images?q=tbn:ANd9GcTPs8LW9jvQl-0abZJ-TNAKLq2d_MNDtwH5lij3g3Na3HCGmp4r"/>
          <p:cNvPicPr/>
          <p:nvPr/>
        </p:nvPicPr>
        <p:blipFill>
          <a:blip r:embed="rId2"/>
          <a:stretch/>
        </p:blipFill>
        <p:spPr>
          <a:xfrm>
            <a:off x="7596360" y="189000"/>
            <a:ext cx="1296720" cy="1150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39640" y="4527360"/>
            <a:ext cx="8229600" cy="2214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o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-effective &amp; Eco-friend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and contribute to better lives of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3274920" y="1987560"/>
            <a:ext cx="4176720" cy="1728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2.bp.blogspot.com/-XfHjmQaHDlU/T38zcP2QfLI/AAAAAAAABF4/UAvaqefEGgM/s1600/thanks.gif"/>
          <p:cNvPicPr/>
          <p:nvPr/>
        </p:nvPicPr>
        <p:blipFill>
          <a:blip r:embed="rId1"/>
          <a:stretch/>
        </p:blipFill>
        <p:spPr>
          <a:xfrm>
            <a:off x="1214280" y="1916280"/>
            <a:ext cx="6531120" cy="457200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3" descr=""/>
          <p:cNvPicPr/>
          <p:nvPr/>
        </p:nvPicPr>
        <p:blipFill>
          <a:blip r:embed="rId2"/>
          <a:stretch/>
        </p:blipFill>
        <p:spPr>
          <a:xfrm>
            <a:off x="1865160" y="255600"/>
            <a:ext cx="54136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emperature in H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內容版面配置區 3" descr="high temperature comic.jpg"/>
          <p:cNvPicPr/>
          <p:nvPr/>
        </p:nvPicPr>
        <p:blipFill>
          <a:blip r:embed="rId1"/>
          <a:stretch/>
        </p:blipFill>
        <p:spPr>
          <a:xfrm>
            <a:off x="468360" y="1609560"/>
            <a:ext cx="3571920" cy="3332160"/>
          </a:xfrm>
          <a:prstGeom prst="rect">
            <a:avLst/>
          </a:prstGeom>
          <a:ln w="0">
            <a:noFill/>
          </a:ln>
        </p:spPr>
      </p:pic>
      <p:sp>
        <p:nvSpPr>
          <p:cNvPr id="87" name="文字方塊 5"/>
          <p:cNvSpPr/>
          <p:nvPr/>
        </p:nvSpPr>
        <p:spPr>
          <a:xfrm>
            <a:off x="4356000" y="1773360"/>
            <a:ext cx="417672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reach up to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35</a:t>
            </a:r>
            <a:r>
              <a:rPr b="0" lang="en-US" sz="4000" spc="-1" strike="noStrike" baseline="50000">
                <a:solidFill>
                  <a:srgbClr val="ff0000"/>
                </a:solidFill>
                <a:latin typeface="Comic Sans MS"/>
                <a:ea typeface="ＭＳ Ｐゴシック"/>
              </a:rPr>
              <a:t>o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summ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ople suffer from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stuffines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 unbearab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文字方塊 6"/>
          <p:cNvSpPr/>
          <p:nvPr/>
        </p:nvSpPr>
        <p:spPr>
          <a:xfrm>
            <a:off x="3924360" y="49417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文字方塊 7"/>
          <p:cNvSpPr/>
          <p:nvPr/>
        </p:nvSpPr>
        <p:spPr>
          <a:xfrm rot="21142800">
            <a:off x="5406840" y="5256000"/>
            <a:ext cx="3708360" cy="666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LOBAL WARM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文字方塊 8"/>
          <p:cNvSpPr/>
          <p:nvPr/>
        </p:nvSpPr>
        <p:spPr>
          <a:xfrm rot="282000">
            <a:off x="125280" y="5663880"/>
            <a:ext cx="5357880" cy="666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URBAN HEAT ISLAND EFF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4" descr="http://t0.gstatic.com/images?q=tbn:ANd9GcTIOPbUpG-GDdaEl-qjkRlDiNQAO56Z4Do2fjE_olngIeUfuyb0"/>
          <p:cNvPicPr/>
          <p:nvPr/>
        </p:nvPicPr>
        <p:blipFill>
          <a:blip r:embed="rId2"/>
          <a:stretch/>
        </p:blipFill>
        <p:spPr>
          <a:xfrm>
            <a:off x="7392960" y="26028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92" name="矩形 9"/>
          <p:cNvSpPr/>
          <p:nvPr/>
        </p:nvSpPr>
        <p:spPr>
          <a:xfrm>
            <a:off x="2124000" y="4635360"/>
            <a:ext cx="1871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3132000" y="4417920"/>
            <a:ext cx="863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3851280" y="2617920"/>
            <a:ext cx="14436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1413000"/>
            <a:ext cx="58006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irling engine syst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lectr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as a 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ventil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字方塊 3"/>
          <p:cNvSpPr/>
          <p:nvPr/>
        </p:nvSpPr>
        <p:spPr>
          <a:xfrm>
            <a:off x="2603520" y="4292640"/>
            <a:ext cx="6072120" cy="2319480"/>
          </a:xfrm>
          <a:custGeom>
            <a:avLst/>
            <a:gdLst>
              <a:gd name="textAreaLeft" fmla="*/ 624600 w 6072120"/>
              <a:gd name="textAreaRight" fmla="*/ 6697080 w 6072120"/>
              <a:gd name="textAreaTop" fmla="*/ 289800 h 2319480"/>
              <a:gd name="textAreaBottom" fmla="*/ 2029680 h 2319480"/>
            </a:gdLst>
            <a:ahLst/>
            <a:rect l="textAreaLeft" t="textAreaTop" r="textAreaRight" b="textAreaBottom"/>
            <a:pathLst>
              <a:path w="21600" h="21600">
                <a:moveTo>
                  <a:pt x="2222" y="1350"/>
                </a:moveTo>
                <a:cubicBezTo>
                  <a:pt x="4711" y="-3433"/>
                  <a:pt x="9422" y="6133"/>
                  <a:pt x="11911" y="1350"/>
                </a:cubicBezTo>
                <a:cubicBezTo>
                  <a:pt x="14400" y="-3433"/>
                  <a:pt x="19111" y="6133"/>
                  <a:pt x="21600" y="1350"/>
                </a:cubicBezTo>
                <a:lnTo>
                  <a:pt x="19378" y="20250"/>
                </a:lnTo>
                <a:cubicBezTo>
                  <a:pt x="16889" y="25033"/>
                  <a:pt x="12178" y="15467"/>
                  <a:pt x="9689" y="20250"/>
                </a:cubicBezTo>
                <a:cubicBezTo>
                  <a:pt x="7200" y="25033"/>
                  <a:pt x="2489" y="15467"/>
                  <a:pt x="0" y="20250"/>
                </a:cubicBez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Tai Le"/>
                <a:ea typeface="Microsoft Tai Le"/>
              </a:rPr>
              <a:t>~ Cool @ Bus Stop ~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2" descr="http://vort.org/media/images/stirling_engine.jpg"/>
          <p:cNvPicPr/>
          <p:nvPr/>
        </p:nvPicPr>
        <p:blipFill>
          <a:blip r:embed="rId1"/>
          <a:stretch/>
        </p:blipFill>
        <p:spPr>
          <a:xfrm>
            <a:off x="6372360" y="549360"/>
            <a:ext cx="2087280" cy="2943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0"/>
          <p:cNvSpPr/>
          <p:nvPr/>
        </p:nvSpPr>
        <p:spPr>
          <a:xfrm>
            <a:off x="155520" y="-601560"/>
            <a:ext cx="1257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155520" y="-601560"/>
            <a:ext cx="1257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8" descr="http://t0.gstatic.com/images?q=tbn:ANd9GcTIiwU-TEXeThWGGYt9ysE5OIGmPjVlIIRGR3INKHukgaWc_D_F"/>
          <p:cNvPicPr/>
          <p:nvPr/>
        </p:nvPicPr>
        <p:blipFill>
          <a:blip r:embed="rId2"/>
          <a:stretch/>
        </p:blipFill>
        <p:spPr>
          <a:xfrm>
            <a:off x="324000" y="3860640"/>
            <a:ext cx="1712880" cy="1660680"/>
          </a:xfrm>
          <a:prstGeom prst="rect">
            <a:avLst/>
          </a:prstGeom>
          <a:ln w="0">
            <a:noFill/>
          </a:ln>
        </p:spPr>
      </p:pic>
      <p:cxnSp>
        <p:nvCxnSpPr>
          <p:cNvPr id="102" name="弧形接點 24"/>
          <p:cNvCxnSpPr/>
          <p:nvPr/>
        </p:nvCxnSpPr>
        <p:spPr>
          <a:xfrm>
            <a:off x="1428840" y="4286160"/>
            <a:ext cx="1357920" cy="357840"/>
          </a:xfrm>
          <a:prstGeom prst="curvedConnector5">
            <a:avLst>
              <a:gd name="adj1" fmla="val 49986"/>
              <a:gd name="adj2" fmla="val 49949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弧形接點 29"/>
          <p:cNvCxnSpPr/>
          <p:nvPr/>
        </p:nvCxnSpPr>
        <p:spPr>
          <a:xfrm>
            <a:off x="1428840" y="4429080"/>
            <a:ext cx="1357920" cy="357840"/>
          </a:xfrm>
          <a:prstGeom prst="curvedConnector5">
            <a:avLst>
              <a:gd name="adj1" fmla="val 49986"/>
              <a:gd name="adj2" fmla="val 49949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弧形接點 30"/>
          <p:cNvCxnSpPr/>
          <p:nvPr/>
        </p:nvCxnSpPr>
        <p:spPr>
          <a:xfrm>
            <a:off x="1428840" y="4572000"/>
            <a:ext cx="1357920" cy="357840"/>
          </a:xfrm>
          <a:prstGeom prst="curvedConnector5">
            <a:avLst>
              <a:gd name="adj1" fmla="val 49986"/>
              <a:gd name="adj2" fmla="val 49949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向右箭號 31"/>
          <p:cNvSpPr/>
          <p:nvPr/>
        </p:nvSpPr>
        <p:spPr>
          <a:xfrm rot="5400000">
            <a:off x="4651200" y="3430440"/>
            <a:ext cx="714600" cy="1000080"/>
          </a:xfrm>
          <a:custGeom>
            <a:avLst/>
            <a:gdLst>
              <a:gd name="textAreaLeft" fmla="*/ 111600 w 714600"/>
              <a:gd name="textAreaRight" fmla="*/ 536040 w 7146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714375" h="1000125">
                <a:moveTo>
                  <a:pt x="0" y="250031"/>
                </a:moveTo>
                <a:lnTo>
                  <a:pt x="22324" y="250031"/>
                </a:lnTo>
                <a:lnTo>
                  <a:pt x="22324" y="750094"/>
                </a:lnTo>
                <a:lnTo>
                  <a:pt x="0" y="750094"/>
                </a:lnTo>
                <a:close/>
                <a:moveTo>
                  <a:pt x="44648" y="250031"/>
                </a:moveTo>
                <a:lnTo>
                  <a:pt x="89297" y="250031"/>
                </a:lnTo>
                <a:lnTo>
                  <a:pt x="89297" y="750094"/>
                </a:lnTo>
                <a:lnTo>
                  <a:pt x="44648" y="750094"/>
                </a:lnTo>
                <a:close/>
                <a:moveTo>
                  <a:pt x="111621" y="250031"/>
                </a:moveTo>
                <a:lnTo>
                  <a:pt x="357188" y="250031"/>
                </a:lnTo>
                <a:lnTo>
                  <a:pt x="357188" y="0"/>
                </a:lnTo>
                <a:lnTo>
                  <a:pt x="714375" y="500063"/>
                </a:lnTo>
                <a:lnTo>
                  <a:pt x="357188" y="1000125"/>
                </a:lnTo>
                <a:lnTo>
                  <a:pt x="357188" y="750094"/>
                </a:lnTo>
                <a:lnTo>
                  <a:pt x="111621" y="7500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Stirling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1773360"/>
            <a:ext cx="561636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rmal expansion and contrac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pplied: temperature differen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iston can be pushed </a:t>
            </a:r>
            <a:r>
              <a:rPr b="0" lang="en-US" sz="3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enerates kinetic energy from heat energ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Stirling Animation.gif"/>
          <p:cNvPicPr/>
          <p:nvPr/>
        </p:nvPicPr>
        <p:blipFill>
          <a:blip r:embed="rId1"/>
          <a:stretch/>
        </p:blipFill>
        <p:spPr>
          <a:xfrm>
            <a:off x="6516720" y="1989000"/>
            <a:ext cx="1800360" cy="36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:\17-3-2012\P1030641 - 複製.JPG"/>
          <p:cNvPicPr/>
          <p:nvPr/>
        </p:nvPicPr>
        <p:blipFill>
          <a:blip r:embed="rId1"/>
          <a:stretch/>
        </p:blipFill>
        <p:spPr>
          <a:xfrm>
            <a:off x="684360" y="106200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47520" y="115560"/>
            <a:ext cx="4619520" cy="8557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Structure of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00360" y="-360"/>
            <a:ext cx="4608360" cy="981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ir</a:t>
            </a:r>
            <a:r>
              <a:rPr b="0" lang="en-US" sz="28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the hot end: exp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ir</a:t>
            </a:r>
            <a:r>
              <a:rPr b="0" lang="en-US" sz="28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the cold end: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9" descr="P1030620"/>
          <p:cNvPicPr/>
          <p:nvPr/>
        </p:nvPicPr>
        <p:blipFill>
          <a:blip r:embed="rId1"/>
          <a:stretch/>
        </p:blipFill>
        <p:spPr>
          <a:xfrm>
            <a:off x="3276720" y="-27000"/>
            <a:ext cx="3024000" cy="2235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P1030621"/>
          <p:cNvPicPr/>
          <p:nvPr/>
        </p:nvPicPr>
        <p:blipFill>
          <a:blip r:embed="rId2"/>
          <a:stretch/>
        </p:blipFill>
        <p:spPr>
          <a:xfrm>
            <a:off x="6264360" y="0"/>
            <a:ext cx="2879640" cy="219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P1030622"/>
          <p:cNvPicPr/>
          <p:nvPr/>
        </p:nvPicPr>
        <p:blipFill>
          <a:blip r:embed="rId3"/>
          <a:stretch/>
        </p:blipFill>
        <p:spPr>
          <a:xfrm>
            <a:off x="0" y="2205000"/>
            <a:ext cx="3276720" cy="2751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P1030619"/>
          <p:cNvPicPr/>
          <p:nvPr/>
        </p:nvPicPr>
        <p:blipFill>
          <a:blip r:embed="rId4"/>
          <a:stretch/>
        </p:blipFill>
        <p:spPr>
          <a:xfrm>
            <a:off x="0" y="0"/>
            <a:ext cx="3286080" cy="220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1030624"/>
          <p:cNvPicPr/>
          <p:nvPr/>
        </p:nvPicPr>
        <p:blipFill>
          <a:blip r:embed="rId5"/>
          <a:stretch/>
        </p:blipFill>
        <p:spPr>
          <a:xfrm>
            <a:off x="3059280" y="2060640"/>
            <a:ext cx="3673440" cy="2409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P1030625"/>
          <p:cNvPicPr/>
          <p:nvPr/>
        </p:nvPicPr>
        <p:blipFill>
          <a:blip r:embed="rId6"/>
          <a:stretch/>
        </p:blipFill>
        <p:spPr>
          <a:xfrm>
            <a:off x="5765760" y="2205000"/>
            <a:ext cx="3378240" cy="2409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1030626"/>
          <p:cNvPicPr/>
          <p:nvPr/>
        </p:nvPicPr>
        <p:blipFill>
          <a:blip r:embed="rId7"/>
          <a:stretch/>
        </p:blipFill>
        <p:spPr>
          <a:xfrm>
            <a:off x="522360" y="4322880"/>
            <a:ext cx="3618000" cy="2562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P1030627"/>
          <p:cNvPicPr/>
          <p:nvPr/>
        </p:nvPicPr>
        <p:blipFill>
          <a:blip r:embed="rId8"/>
          <a:stretch/>
        </p:blipFill>
        <p:spPr>
          <a:xfrm>
            <a:off x="4427640" y="4365720"/>
            <a:ext cx="3395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s://lh6.googleusercontent.com/7Zm4-Z8vZ10wwY4wvukLYo4DZF2_6ocSmG25aiWOhnosTuS5kA7aLsqkNnB60LRWEcXcLmijqN1kxTTEXJUe3dmpQq2PqIvUhLsl-0iabLoNu7eao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128" name="圖片 2" descr="CIMG0985.JPG"/>
          <p:cNvPicPr/>
          <p:nvPr/>
        </p:nvPicPr>
        <p:blipFill>
          <a:blip r:embed="rId2"/>
          <a:stretch/>
        </p:blipFill>
        <p:spPr>
          <a:xfrm>
            <a:off x="6504120" y="3724200"/>
            <a:ext cx="262728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3:14:49Z</dcterms:created>
  <dc:creator>Gavin</dc:creator>
  <dc:description/>
  <dc:language>en-US</dc:language>
  <cp:lastModifiedBy>Gavin</cp:lastModifiedBy>
  <dcterms:modified xsi:type="dcterms:W3CDTF">2012-06-01T06:51:35Z</dcterms:modified>
  <cp:revision>55</cp:revision>
  <dc:subject/>
  <dc:title>投影片 1</dc:title>
</cp:coreProperties>
</file>